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30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014360" y="0"/>
            <a:ext cx="30704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85480" y="705960"/>
            <a:ext cx="4716360" cy="35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7760" y="447804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895500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4014360" y="8955000"/>
            <a:ext cx="30704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7124852-669F-4703-871E-551E54085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14720" y="8955000"/>
            <a:ext cx="307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7455A87-E8C9-4A01-AB79-A8943DDF5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5FAC4-2EB5-4A25-A5EA-4FCE1CBD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0B60B-59EE-4DE2-861C-1B55CEAB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FD66A-5B5C-43F4-8D8E-FD904CBD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83A64-D0A2-496B-B341-85A741A2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DE13-D192-4113-AB8D-7829DBE6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73E8-DC94-440D-8A3A-52292F27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0DC6-4625-4710-8500-742651EE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9300-A513-470B-9031-DFCF3BAE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DC60-9990-4DCD-B9E3-726F8DB8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D8DD-1DA4-4320-BB81-F3AA481C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78D5-B9A0-4217-9126-5F8AF417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D27B0-92D0-4D8D-B0BC-B8E31EDE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FA1B-9B9F-40B1-9B2C-76FA2688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F494-A7E6-4EB0-971C-74239139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3F46-5BC3-4B6A-85A7-33FA0E42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CFA5-588F-405B-A6E8-E20804DB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D8A4-C5C9-48E4-A2A1-020A82FA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A3D47-3481-486D-859C-9525BA47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D9961-075A-4D46-9653-F02A7826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00471-B322-4572-812E-B20FA9A9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EA4E5-889D-42D7-AF06-26A966D6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50EE3-69DB-40AC-91B6-9ECB16A3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72BC8-222E-48E8-BB27-354E0F11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8A242-DD3D-4F0F-BE39-BA7FFD8E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5C31-FC5A-4023-89F3-91F4ADC9F8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48A8-5BC8-44C6-B988-F13FAFCC51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5909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he Lower Limb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981080" y="4495680"/>
            <a:ext cx="54864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elvis, Thigh, Le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d Foo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267080" y="1752480"/>
            <a:ext cx="4648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the weight of body from femur and transmits to f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to femur in size and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culates with fibula proximally and dist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osseous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bear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le attach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art of knee 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ilize ankle 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1"/>
          <a:stretch/>
        </p:blipFill>
        <p:spPr>
          <a:xfrm>
            <a:off x="0" y="2133720"/>
            <a:ext cx="4309920" cy="3560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00600" y="304920"/>
            <a:ext cx="41148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the weight of the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 as a lever to propel the body 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us = ank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ween tibia and fibu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iculates with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aneus = h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 for Calcaneal tend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ries ta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l, lateral and intermediate cunei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tar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la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162000" y="1600200"/>
            <a:ext cx="4421160" cy="4619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9760" y="1980720"/>
            <a:ext cx="4037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ar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ver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tendons that run inferior to foot b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support arches of f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il after ste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6461280" y="24382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 flipV="1">
            <a:off x="6537240" y="28195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7076160" y="2630520"/>
            <a:ext cx="1471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itudi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4191120" cy="4514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733920" y="2282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oints of Lower Lim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733920" y="1447560"/>
            <a:ext cx="4952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p (femur + acetabul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l +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ax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ov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ee (femur + ti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nge (modifi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ax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ov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menisci, bursa, many liga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ee (femur + patel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ding of pat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ov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Joints"/>
          <p:cNvPicPr/>
          <p:nvPr/>
        </p:nvPicPr>
        <p:blipFill>
          <a:blip r:embed="rId1"/>
          <a:stretch/>
        </p:blipFill>
        <p:spPr>
          <a:xfrm>
            <a:off x="228600" y="685800"/>
            <a:ext cx="3327480" cy="579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Line 6"/>
          <p:cNvSpPr/>
          <p:nvPr/>
        </p:nvSpPr>
        <p:spPr>
          <a:xfrm flipH="1" flipV="1">
            <a:off x="3047760" y="2743200"/>
            <a:ext cx="68580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 flipH="1" flipV="1">
            <a:off x="3276360" y="3580920"/>
            <a:ext cx="533160" cy="1676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 flipH="1">
            <a:off x="3048120" y="1752480"/>
            <a:ext cx="761760" cy="381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733920" y="1519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oints of Lower Lim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43040" y="175212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imal Tibia + Fib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, Gl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ov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l Tibia + Fib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 “give” (synarthr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rous (syndesm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kle (Tibia/Fibula + Tal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ge, Uniax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ov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tarsal &amp; Tarsal-metatar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, synov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tarsal-phal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yloid, synov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halang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ge, uniax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Joints"/>
          <p:cNvPicPr/>
          <p:nvPr/>
        </p:nvPicPr>
        <p:blipFill>
          <a:blip r:embed="rId1"/>
          <a:stretch/>
        </p:blipFill>
        <p:spPr>
          <a:xfrm>
            <a:off x="228600" y="533520"/>
            <a:ext cx="3459240" cy="601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Line 5"/>
          <p:cNvSpPr/>
          <p:nvPr/>
        </p:nvSpPr>
        <p:spPr>
          <a:xfrm flipH="1">
            <a:off x="3200040" y="2057400"/>
            <a:ext cx="1219320" cy="1600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 flipH="1">
            <a:off x="3123720" y="2971800"/>
            <a:ext cx="1295640" cy="99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 flipH="1">
            <a:off x="2971800" y="3886200"/>
            <a:ext cx="137160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H="1">
            <a:off x="3200040" y="4800600"/>
            <a:ext cx="1143000" cy="76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9"/>
          <p:cNvSpPr/>
          <p:nvPr/>
        </p:nvSpPr>
        <p:spPr>
          <a:xfrm flipH="1">
            <a:off x="3123720" y="4800600"/>
            <a:ext cx="121932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0"/>
          <p:cNvSpPr/>
          <p:nvPr/>
        </p:nvSpPr>
        <p:spPr>
          <a:xfrm flipH="1">
            <a:off x="3276360" y="5410080"/>
            <a:ext cx="1143000" cy="30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1"/>
          <p:cNvSpPr/>
          <p:nvPr/>
        </p:nvSpPr>
        <p:spPr>
          <a:xfrm flipH="1">
            <a:off x="3429000" y="6019920"/>
            <a:ext cx="914400" cy="759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24080" y="2742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uscl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scles of Hip and Thi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419720" y="114300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te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pel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t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e t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ducts t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Compartment T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es thigh at 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s leg at kn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/Adductor Com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ucts t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lly rotates t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Compartment T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s t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es l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4051440" cy="5791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http://ect.downstate.edu/courseware/haonline/imgs/00000/1000/700/179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576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ut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05320" y="1447920"/>
            <a:ext cx="5486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teus max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 - Ilium, sacrum and coccy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ion - Gluteal tuberosity of femur, iliotibial 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- Extends thigh, some lateral rotation and ab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ervation - Inferior gluteal n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teus me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teus min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 - Il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ion - Greater trochanter of fem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- Abduction, medial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ervation - Superior gluteal ner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er Gluteals help stabilize hip to allow fluent bipedal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"/>
          <p:cNvPicPr/>
          <p:nvPr/>
        </p:nvPicPr>
        <p:blipFill>
          <a:blip r:embed="rId1"/>
          <a:stretch/>
        </p:blipFill>
        <p:spPr>
          <a:xfrm>
            <a:off x="380880" y="114480"/>
            <a:ext cx="2978280" cy="3085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77" name="Picture 10" descr=""/>
          <p:cNvPicPr/>
          <p:nvPr/>
        </p:nvPicPr>
        <p:blipFill>
          <a:blip r:embed="rId2"/>
          <a:stretch/>
        </p:blipFill>
        <p:spPr>
          <a:xfrm>
            <a:off x="228600" y="3343320"/>
            <a:ext cx="3162240" cy="3133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14440" y="4572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erior Pelv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90760" y="1676160"/>
            <a:ext cx="4647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sor fasciae lat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– iliac crest and anterior inf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– iliotibial 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- Flex thigh, abduct thigh, medial rotation of t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ion – Superior glut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708360" cy="556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81480" y="1447560"/>
            <a:ext cx="37339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teal region / posterior pel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ac c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teus maxim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al/gluteal cle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midline; “Cr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teal fol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 of cheek; “promine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647960" cy="4012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terior Compartment Thi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62160" y="914400"/>
            <a:ext cx="4724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iceps femo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us femo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– anterior inferior iliac spine, margin of acetab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– patella and tibial tuberosity via the patellar liga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– extends knee, flexes t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stus later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stus medi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stus interme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- fem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– patella and tibial tuberosity via the patellar lig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– extends kn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rtor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- anterior superior iliac s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– medial ti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- flex, abduct, lat rotate thigh; weak knee flex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9000" y="6481800"/>
            <a:ext cx="4582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above innervated by the femoral nerv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0" y="1442880"/>
            <a:ext cx="4140360" cy="480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terior Compartment Thi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266720" y="159984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opso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- Ilia, sacrum, lumbar vertebr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– lesser trocha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or of t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ion – 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670200" cy="5507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u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580920" y="1219320"/>
            <a:ext cx="5257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uctor long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uctor bre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uctor mag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– inferior pel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- fem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u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medial ro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vation – Obturator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ctin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- pu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– lesser trocha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u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edial ro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vation – femoral, sometimes obtu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c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- pu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– medial ti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u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igh, flex, medial, rotates 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vation – Obturator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457200" y="52560"/>
            <a:ext cx="2903400" cy="3376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91" name="Picture 6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2986200" cy="3300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erior Compartment - Ham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733920" y="990720"/>
            <a:ext cx="5333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ceps femoris (2 hea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– ischial tuberosity, distal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- lateral tibia, head fib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- thigh extension, knee flexion, lateral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tendino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membrano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- ischial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- medial t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- thigh extension, knee flexion, medial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9000" y="6481800"/>
            <a:ext cx="530604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atic nerve innervates all of the above muscle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1"/>
          <a:stretch/>
        </p:blipFill>
        <p:spPr>
          <a:xfrm>
            <a:off x="73080" y="1476360"/>
            <a:ext cx="3508200" cy="4543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scles of the 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Com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iflex ankle, invert foot, extend 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ion: Deep fibular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Com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arflex, evert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ion: Superficial Fibular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Compar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and deep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arflex foot, flex 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ion: Tibi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terior Compar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86200" y="1143000"/>
            <a:ext cx="4952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is 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 - ti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ion - tar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- dorsiflexion, foot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or digitorum lon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 – tibia and fib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ion - phal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– toe 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or hallucis lon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 – fibula, interosseous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ion – big t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- extend big toe, dorsiflex fo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048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210480" y="6324480"/>
            <a:ext cx="375444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nervated by deep fibular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3183120" cy="5133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teral Compar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62520" y="1523520"/>
            <a:ext cx="4868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ularis (peroneus) lon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– lateral fib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–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atarsal, ta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- plantarflex, evert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ularis (peroneus) bre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– distal fib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- proximal fifth metata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– same as abov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881160" y="6324480"/>
            <a:ext cx="465516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nervated by the superficial fibular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8" descr=""/>
          <p:cNvPicPr/>
          <p:nvPr/>
        </p:nvPicPr>
        <p:blipFill>
          <a:blip r:embed="rId1"/>
          <a:stretch/>
        </p:blipFill>
        <p:spPr>
          <a:xfrm>
            <a:off x="71280" y="1905120"/>
            <a:ext cx="3814920" cy="439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perficial Posterior Compartme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57600" y="114300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eps sur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trocnemius (2 hea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- medial and lateral condyles of fem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- posterior calcaneus via Achilles te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– tibia and fib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– sam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of both – plantarflex f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aris (var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 – posterior fem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ion – same as abo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– plantarflex foot, week knee flex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314280" y="6095880"/>
            <a:ext cx="341316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nervated by the tibial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346560" cy="4233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ep Posterior Compar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505320" y="1294920"/>
            <a:ext cx="548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lit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- lateral condyle fem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ateral meni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– proximal ti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– flex and medially rotate 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or digitorum long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- ti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- distal phalanges of toe 2-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– plantarflex and invert foot, flex t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or hallucis long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- fib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- distal phalanx of hal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- plantarflex and invert foot, flex t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bialis pos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– tibia, fibula, and interosseous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- tarsals and metatar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- plantarflex and invert f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4120920" y="6400800"/>
            <a:ext cx="341316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nervated by the tibial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3095640" cy="5424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990720" y="123840"/>
            <a:ext cx="70866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38480" y="1828440"/>
            <a:ext cx="4572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thigh and 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p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yles of fem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Tri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a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rtorius (late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uctor longus (med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uinal ligament (superi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oral artery, vein and nerve, lymph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808440" cy="5315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47960" y="1828800"/>
            <a:ext cx="4343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nerv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2155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exuses of the Lower Li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800600" y="137124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osacral plexu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ar Plex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ses from L1-L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es within the psoas major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ly anterior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cral Plex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ses from spinal nerve L4-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es caudal to the lumbar plex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ly posterior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54640" cy="5410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umbar Plex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352320" y="1447560"/>
            <a:ext cx="5791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aneous bra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gh, leg, foot (e.g. saphenous ner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 bra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rior thigh muscles (e.g. quadriceps, sartorius, iliopso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urator n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n medial thigh; hip, knee j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uctor mus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al femoral cutan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n lateral t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itofemo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n scrotum, labia major, anterior t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master mus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073320" cy="3110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4724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cral Plex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28640" y="1143000"/>
            <a:ext cx="5715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mst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ches i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ane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erior leg and sole of f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erior leg, f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fibular (peroneal) nerve (superficial and deep peroneal ner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ane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rior and lateral leg, dorsum f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ral compartment, tibialis anterior, toe extens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glut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teus medius and minimus, tensor fasciae lat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0" y="1523880"/>
            <a:ext cx="3613320" cy="3657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cral Plexu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19360" y="137124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ior glute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uteus maxi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femoral cutaneous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ior buttocks, posterior thigh, popliteal fo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dend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genitalia, 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les of perine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202280" cy="4253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76640" y="3200040"/>
            <a:ext cx="3852720" cy="4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Vasculature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495320" y="2209680"/>
            <a:ext cx="4419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iliac (from aorta) branches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ili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ies pelvic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ili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ies lower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9" descr="showimage"/>
          <p:cNvPicPr/>
          <p:nvPr/>
        </p:nvPicPr>
        <p:blipFill>
          <a:blip r:embed="rId1"/>
          <a:stretch/>
        </p:blipFill>
        <p:spPr>
          <a:xfrm>
            <a:off x="228600" y="1295280"/>
            <a:ext cx="4191120" cy="5343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428640" y="1980720"/>
            <a:ext cx="5257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iliac branches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ranial and Caudal Glute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uperior and Inferi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ut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ernal Pudend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neum, external genit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btur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uctor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branches supply rectum, bladder, uterus, vagina, male reproductive 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3505320" cy="3179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352320" y="-3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971800" y="1447560"/>
            <a:ext cx="6019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iliac becomes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mo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passes the inguinal lig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es in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ep fem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uctors, hamstrings, quadrice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ches into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edial/lateral femoral circumflex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 and neck of fem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become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plite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ntinuation of femor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es i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enicul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s i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nterior Tib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rior leg muscles, further branches to f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osterior Tib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or muscles, plantar arch, branches to t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3" descr=""/>
          <p:cNvPicPr/>
          <p:nvPr/>
        </p:nvPicPr>
        <p:blipFill>
          <a:blip r:embed="rId1"/>
          <a:stretch/>
        </p:blipFill>
        <p:spPr>
          <a:xfrm>
            <a:off x="11160" y="1447920"/>
            <a:ext cx="2960640" cy="5181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733920" y="609480"/>
            <a:ext cx="5410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Veins: Mostly share names of ar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ltimately empty into Inferior Vena C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b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lit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/internal ili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lia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Ve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rsal venous arch (fo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saphenous (empties into femo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saphenous (empties into poplite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6" descr=""/>
          <p:cNvPicPr/>
          <p:nvPr/>
        </p:nvPicPr>
        <p:blipFill>
          <a:blip r:embed="rId1"/>
          <a:stretch/>
        </p:blipFill>
        <p:spPr>
          <a:xfrm>
            <a:off x="162000" y="1219320"/>
            <a:ext cx="3495600" cy="5330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liteal fo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mond-shape fossa behind kn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ceps femoris (superior-late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tendinosis and semimembranosis (superior-med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trocnemius heads (inferi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liteal artery and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aneal (Achilles)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0" y="2209680"/>
            <a:ext cx="5486400" cy="323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62520" y="2057400"/>
            <a:ext cx="413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leg b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bial tuber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 c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l 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l malleo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al malleo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2934000" cy="4543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8195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keletal Composi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nes of the Lower Li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9880" y="1294920"/>
            <a:ext cx="5181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o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weight of entire erect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s for muscular attach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bia (med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ula (late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sals 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tarsals 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langes (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911320" cy="5257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i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2520" y="2133720"/>
            <a:ext cx="403884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st, longest, strongest bone in the body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s a lot of 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s medi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in wom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culates with acetabulum proxim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culates with tibia and patella dist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New Image"/>
          <p:cNvPicPr/>
          <p:nvPr/>
        </p:nvPicPr>
        <p:blipFill>
          <a:blip r:embed="rId1"/>
          <a:stretch/>
        </p:blipFill>
        <p:spPr>
          <a:xfrm>
            <a:off x="8153280" y="152280"/>
            <a:ext cx="895320" cy="2743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4714920" cy="4283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n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80060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ngular sesamoid 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knee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leverage of thigh muscles acting across the k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ed within patellar lig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4191120" cy="3247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21:28:28Z</dcterms:created>
  <dc:creator>Heather Townsend</dc:creator>
  <dc:description/>
  <cp:keywords/>
  <dc:language>en-US</dc:language>
  <cp:lastModifiedBy>Newport</cp:lastModifiedBy>
  <dcterms:modified xsi:type="dcterms:W3CDTF">2009-08-17T20:48:50Z</dcterms:modified>
  <cp:revision>15</cp:revision>
  <dc:subject/>
  <dc:title>The Lower Lim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61033</vt:lpwstr>
  </property>
</Properties>
</file>